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546-5F39-4AA8-A874-4EBA0ADE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A9D-27C5-4961-8C96-4FE7E63B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36E-1979-4705-8911-72E178D2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DE1-8781-4DF4-A9B3-1F352E46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4C0-4EF3-46BA-8E20-364C113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45D-DA32-47DC-9308-B55A5D7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B50-08E2-4995-BCA8-E5A1921B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B1C-4092-4481-A540-40FB9A6A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4FE-9D52-457D-B6F4-DE89E351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D2A-0176-443C-BB3C-04CF34E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1D0-2E7F-4B2C-87A6-81C3C2C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D35-5976-4891-8D80-D612472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4B22-C5F3-4E5F-9B6B-0CA18E68E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PR</a:t>
            </a:r>
            <a:r>
              <a:rPr b="0" lang="en-US" sz="7200" spc="-1" strike="noStrike">
                <a:solidFill>
                  <a:srgbClr val="ff6633"/>
                </a:solidFill>
                <a:latin typeface="Times New Roman"/>
              </a:rPr>
              <a:t>IN</a:t>
            </a: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CI</a:t>
            </a:r>
            <a:r>
              <a:rPr b="0" lang="en-US" sz="7200" spc="-1" strike="noStrike">
                <a:solidFill>
                  <a:srgbClr val="ff0066"/>
                </a:solidFill>
                <a:latin typeface="Times New Roman"/>
              </a:rPr>
              <a:t>PLES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3399"/>
                </a:solidFill>
                <a:latin typeface="Times New Roman"/>
              </a:rPr>
              <a:t>O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lang="en-US" sz="9500" spc="-1" strike="noStrike">
                <a:solidFill>
                  <a:srgbClr val="080808"/>
                </a:solidFill>
                <a:latin typeface="Times New Roman"/>
              </a:rPr>
              <a:t>A</a:t>
            </a:r>
            <a:r>
              <a:rPr b="1" lang="en-US" sz="9500" spc="-1" strike="noStrike">
                <a:solidFill>
                  <a:srgbClr val="1c1c1c"/>
                </a:solidFill>
                <a:latin typeface="Times New Roman"/>
              </a:rPr>
              <a:t>I</a:t>
            </a:r>
            <a:r>
              <a:rPr b="1" lang="en-US" sz="9500" spc="-1" strike="noStrike">
                <a:solidFill>
                  <a:srgbClr val="4d4d4d"/>
                </a:solidFill>
                <a:latin typeface="Times New Roman"/>
              </a:rPr>
              <a:t>N</a:t>
            </a:r>
            <a:r>
              <a:rPr b="1" lang="en-US" sz="9500" spc="-1" strike="noStrike">
                <a:solidFill>
                  <a:srgbClr val="5f5f5f"/>
                </a:solidFill>
                <a:latin typeface="Times New Roman"/>
              </a:rPr>
              <a:t>I</a:t>
            </a:r>
            <a:r>
              <a:rPr b="1" lang="en-US" sz="9500" spc="-1" strike="noStrike">
                <a:solidFill>
                  <a:srgbClr val="777777"/>
                </a:solidFill>
                <a:latin typeface="Times New Roman"/>
              </a:rPr>
              <a:t>N</a:t>
            </a:r>
            <a:r>
              <a:rPr b="1" lang="en-US" sz="9500" spc="-1" strike="noStrike">
                <a:solidFill>
                  <a:srgbClr val="868686"/>
                </a:solidFill>
                <a:latin typeface="Times New Roman"/>
              </a:rPr>
              <a:t>G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DU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How long a session / program goes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Minimum of 20-30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Aerobic - minimum of 6 weeks, though more likely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Anaerobic - 6 - 8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70640" y="1981080"/>
          <a:ext cx="19494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0640" y="1981080"/>
                    <a:ext cx="19494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33cc"/>
                </a:solidFill>
                <a:uFillTx/>
                <a:latin typeface="Times New Roman"/>
              </a:rPr>
              <a:t>INDIVIDUAL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249640"/>
          <a:ext cx="377820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49640"/>
                    <a:ext cx="377820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Different athletes have different needs and therefore need to train according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Difference in sports, positions &amp; fitness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33"/>
                </a:solidFill>
                <a:uFillTx/>
                <a:latin typeface="Times New Roman"/>
              </a:rPr>
              <a:t>VARIE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Can help maintain interest and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who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you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di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48320" y="2254320"/>
          <a:ext cx="37940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54320"/>
                    <a:ext cx="37940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cc"/>
                </a:solidFill>
                <a:uFillTx/>
                <a:latin typeface="Times New Roman"/>
              </a:rPr>
              <a:t>DIMINISHING RETU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t athlete will not progress at the same initial rate as an unfit ath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st results will be shown at the beginning of 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2200" y="1981080"/>
          <a:ext cx="21639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981080"/>
                    <a:ext cx="21639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Times New Roman"/>
              </a:rPr>
              <a:t>DETRAIN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e you stop training you start to lose the benefits.  The less you have trained, the quicker the l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35003" t="3331" r="13748" b="0"/>
          <a:stretch/>
        </p:blipFill>
        <p:spPr>
          <a:xfrm>
            <a:off x="113652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3300"/>
                </a:solidFill>
                <a:uFillTx/>
                <a:latin typeface="Times New Roman"/>
              </a:rPr>
              <a:t>MAINTEN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maintain the benefits of training with a reduction in frequency, but not in intens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54760" y="1981080"/>
          <a:ext cx="296388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4760" y="1981080"/>
                    <a:ext cx="296388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3333cc"/>
                </a:solidFill>
                <a:uFillTx/>
                <a:latin typeface="Times New Roman"/>
              </a:rPr>
              <a:t>RETRAIN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28640" y="1981080"/>
          <a:ext cx="189072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981080"/>
                    <a:ext cx="189072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have trained previously take just as long to show improvements as those who have not trained at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RINCIPLES OF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2214720"/>
          <a:ext cx="37782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4720"/>
                    <a:ext cx="37782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PECIFIC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OGRESSIVE OVERLO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NC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DIVIDUAL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MINISHING RETUR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PRINCIPLES OF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214720"/>
          <a:ext cx="37782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4720"/>
                    <a:ext cx="37782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VARIE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EVERSIBILITY / DETRAI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ETRAI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ROGRESS SHOULD BE MEASURA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3300"/>
                </a:solidFill>
                <a:uFillTx/>
                <a:latin typeface="Times New Roman"/>
              </a:rPr>
              <a:t>SPECIFICI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. ENERGY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2. FITNESS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. MUSCL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4. SKIL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3040" y="1981080"/>
          <a:ext cx="22269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3040" y="1981080"/>
                    <a:ext cx="22269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PROGRESSIVE OVER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Increasing the training workload allows the body to adapt to greater stress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 This can be done by increasing either frequency, intensity or durat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47505" t="6669" r="10004" b="6669"/>
          <a:stretch/>
        </p:blipFill>
        <p:spPr>
          <a:xfrm>
            <a:off x="1219320" y="1600200"/>
            <a:ext cx="29890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ARIABLES TO APLLY TO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OGRESSIVE OVER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istance of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ime of wor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ime of recove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rep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se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# of sessions / wee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mount of resi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ange of mo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1248" t="6669" r="22500" b="5000"/>
          <a:stretch/>
        </p:blipFill>
        <p:spPr>
          <a:xfrm>
            <a:off x="843120" y="1752480"/>
            <a:ext cx="368748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3333cc"/>
                </a:solidFill>
                <a:uFillTx/>
                <a:latin typeface="Times New Roman"/>
              </a:rPr>
              <a:t>FREQUENC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Generally the more often you train and the longer the program goes for, the greater the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in of 3 session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erobic capacity 4 or 5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naerobic needs 3 - 5 s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Athletes need re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607000" y="1981080"/>
          <a:ext cx="185904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7000" y="1981080"/>
                    <a:ext cx="18590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INTENSI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62280" y="1981080"/>
          <a:ext cx="14396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981080"/>
                    <a:ext cx="14396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How hard you             t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Minimum of   70% of Max Heart Rate (MH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erobic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erobic sessions 70 - 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sessions 85 - 10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3300"/>
                </a:solidFill>
                <a:uFillTx/>
                <a:latin typeface="Times New Roman"/>
              </a:rPr>
              <a:t>INTENSIT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62280" y="1981080"/>
          <a:ext cx="14396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981080"/>
                    <a:ext cx="14396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-C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% - 100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- 95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ROBIC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 - 85% M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7T08:46:06Z</dcterms:created>
  <dc:creator>.</dc:creator>
  <dc:description/>
  <dc:language>en-US</dc:language>
  <cp:lastModifiedBy>Setup</cp:lastModifiedBy>
  <cp:lastPrinted>2000-03-08T05:05:50Z</cp:lastPrinted>
  <dcterms:modified xsi:type="dcterms:W3CDTF">2006-07-30T22:33:20Z</dcterms:modified>
  <cp:revision>26</cp:revision>
  <dc:subject/>
  <dc:title>PRINCIPALS  OF</dc:title>
</cp:coreProperties>
</file>